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5854-6BEC-4EF1-A0F8-1C908978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4B85-1BF7-4EC6-9A6C-FEE46141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5E06-5941-4FC9-BE47-F0455493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F6DE-65F1-45F2-B17D-09575591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FC51-C809-476B-BF10-A803F4C1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AD2A-A6BF-4C34-9D2B-0EC41714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3E9B-8B39-477C-9316-A4563BDC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C120-CA2C-47BD-B87D-9D4E2F1A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B847-7B67-4E2C-B87E-2ACFD77F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CBD6-10DA-4A74-98A6-BBB02DBE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0B96-24C6-4174-A84E-8DE7F6F1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76B0-F513-4CF6-B968-8820A02A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34AC-585A-4393-B737-90680165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CF15-F743-434C-BC85-7A74A4E7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9815-AEEB-48FE-8A9B-33553288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0B18-727C-4C55-8DB5-B9F42D88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4C82-0048-4A36-93ED-2BBB9D3D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9AE0-14BF-4563-8704-4009BC71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68CD-A731-4C75-B7FB-AE0355CB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AB7B-C690-46A3-8675-CF5F045A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15C2-0A38-4B56-A4DF-1C642CAB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CB4F-66E1-4BCB-A321-C14FDE06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63AE-BE99-420D-93A1-E5DBE163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8B15-EA5E-4A8E-8832-B8B147ED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B53D-627A-4E87-A209-9B51F68E9F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B6ED-EFF2-4744-AB95-2AF04D70DD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pn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ultura Pucar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tegrantes: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Valeria Jar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Valeria Paz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2683080" cy="3024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71640" y="333360"/>
            <a:ext cx="69530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ografí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299280" y="5950080"/>
            <a:ext cx="25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Geograf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95640" y="0"/>
            <a:ext cx="2952720" cy="1844640"/>
          </a:xfrm>
          <a:prstGeom prst="wedgeRoundRectCallout">
            <a:avLst>
              <a:gd name="adj1" fmla="val -46074"/>
              <a:gd name="adj2" fmla="val 106712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ucara esta ubicado en el departamento de Puno a 61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61km al norte de Juliaca. Al borde de la carretera que conduce al Cuz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665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00720" y="3213000"/>
            <a:ext cx="4643280" cy="3645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-181080" y="3114720"/>
            <a:ext cx="4762440" cy="3743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614760" y="0"/>
            <a:ext cx="5529240" cy="3284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500720" cy="3284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71640" y="242100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los cosechaban y se alimentaban de: olluco, papa, maíz, oca y mash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56000" y="40464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18900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Económic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407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6058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3284640"/>
            <a:ext cx="4284720" cy="3573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780000" y="3284640"/>
            <a:ext cx="5364000" cy="3573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0" y="3284640"/>
            <a:ext cx="4284720" cy="3573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835280" y="2276640"/>
            <a:ext cx="58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mesticaron alpacas para conseguir lanas seleccionadas aunque también domesticaron vicuñas, llamas y guana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olí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ra un gobierno Teocrato, eso significa que su Dios gobernaba a travéz de sus ministros o representan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7308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33336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72084"/>
                </a:solidFill>
                <a:latin typeface="Tahoma"/>
              </a:rPr>
              <a:t>Polí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270828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3213000"/>
            <a:ext cx="77724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72084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672084"/>
                </a:solidFill>
                <a:latin typeface="Tahoma"/>
              </a:rPr>
              <a:t>Era un gobierno Teocrato, eso significa que su Dios gobernaba a travéz de sus ministros o represen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ultur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67080" cy="3048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Trompeta de cerámica"/>
          <p:cNvPicPr/>
          <p:nvPr/>
        </p:nvPicPr>
        <p:blipFill>
          <a:blip r:embed="rId2"/>
          <a:stretch/>
        </p:blipFill>
        <p:spPr>
          <a:xfrm>
            <a:off x="0" y="2997360"/>
            <a:ext cx="3780000" cy="1915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Cuenco con felino"/>
          <p:cNvPicPr/>
          <p:nvPr/>
        </p:nvPicPr>
        <p:blipFill>
          <a:blip r:embed="rId3"/>
          <a:stretch/>
        </p:blipFill>
        <p:spPr>
          <a:xfrm>
            <a:off x="3708360" y="2997360"/>
            <a:ext cx="2160720" cy="1915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Cuenco con personaje con cetros en cada mano"/>
          <p:cNvPicPr/>
          <p:nvPr/>
        </p:nvPicPr>
        <p:blipFill>
          <a:blip r:embed="rId4"/>
          <a:stretch/>
        </p:blipFill>
        <p:spPr>
          <a:xfrm>
            <a:off x="2916360" y="4848120"/>
            <a:ext cx="2232000" cy="2009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867280" y="2997360"/>
            <a:ext cx="3276720" cy="2519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6954840" y="0"/>
            <a:ext cx="2189160" cy="2997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0" y="4429080"/>
            <a:ext cx="3059280" cy="2428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6629400" y="5445000"/>
            <a:ext cx="2514600" cy="1413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4932360" y="4869000"/>
            <a:ext cx="1728720" cy="1989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040360" y="765000"/>
            <a:ext cx="22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>
            <a:off x="6659640" y="5373720"/>
            <a:ext cx="2484360" cy="1484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1"/>
          <a:stretch/>
        </p:blipFill>
        <p:spPr>
          <a:xfrm>
            <a:off x="2411280" y="0"/>
            <a:ext cx="4610160" cy="2997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356000" y="476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1557360"/>
            <a:ext cx="51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2"/>
          <a:stretch/>
        </p:blipFill>
        <p:spPr>
          <a:xfrm>
            <a:off x="4932360" y="4780080"/>
            <a:ext cx="1722600" cy="2077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11280" y="299736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8000" y="278136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u cerámica incluye formas como cuencos altos con bases anurales. Sus diseños son principalmente felinos, camélidos y personajes con cetros en las dos manos. Una cerámica muy conocida es “El torito de Pucará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los también tenían instrumentos music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us construcciones eran de piedra, un ejemplo es la pirámide Kalassaya, o sus “centros secundarios” que se caracterizan por tener una arquitectura completa y refin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3220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5003640" cy="3752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076720" y="3352680"/>
            <a:ext cx="4067280" cy="3505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4284720" y="0"/>
            <a:ext cx="4859280" cy="3646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404640"/>
            <a:ext cx="633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 religión era politeísta. EL torito de Pucará era también parte de su religión. Ellos representan la prosperidad y si hay una cruz, esa representa la religiosidad el bienestar económico. Para la buena suerte se colocan en los techo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465300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551664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lig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-7308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71640" y="256536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350028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132ce"/>
                </a:solidFill>
                <a:latin typeface="Tahoma"/>
              </a:rPr>
              <a:t>Ellos hablaban la lengua Pukina, algunos humanos fueron torturados para aprenderse esta lengua. Esta es una lengua extinta, no mucho gente la usa a comparación de antes. Las culturas Tiahuanaco e Inca la utilizaron tambié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84360" y="90792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33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a132ce"/>
                </a:solidFill>
                <a:latin typeface="Tahoma"/>
              </a:rPr>
              <a:t>Comunic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050920" y="1557360"/>
            <a:ext cx="468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Ellos trabajaban con los “camellones” que permitían la agricultura en terrenos innundab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5280" y="580536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iencia /Tecnologí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23:25:39Z</dcterms:created>
  <dc:creator>Casa</dc:creator>
  <dc:description/>
  <dc:language>en-US</dc:language>
  <cp:lastModifiedBy>Casa</cp:lastModifiedBy>
  <dcterms:modified xsi:type="dcterms:W3CDTF">2009-11-07T03:26:39Z</dcterms:modified>
  <cp:revision>3</cp:revision>
  <dc:subject/>
  <dc:title>Cultura Pucara </dc:title>
</cp:coreProperties>
</file>